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1ECC-570E-443D-8FC6-E147FBE3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FDEB-D1DF-47F0-9EC6-025FA43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1B67-C187-4F70-A685-16BA4110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C63A-038F-42AA-B054-98C060DF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CA36-9AB8-4774-B20A-CD373F6B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21E0-2898-4759-9E44-1478C97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B445-C81D-4CF5-B1F5-B103041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4E2D-0662-4A08-ADA8-AFBBE6A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534F-3463-45E3-AB07-4FD17F4F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064F-31CE-4646-ABE0-27208432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6F7F-FBAE-4718-AB1C-EFA558F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2DFB-EA08-424B-9238-F1357E5D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F90-F4A7-4594-9374-CFD06AA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5D2-D79F-4270-A057-6615572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E76-A8A1-4305-A1EC-6C26DD64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06CB-0A47-42D9-BC62-4B9CC3A7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2F25-9D51-4A03-A5A7-7AFA7A76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5E71-E3C6-47EA-A1F3-E0A49363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05F9-E280-404C-8EEF-B154E7FE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FB0B-E653-4510-B64A-09D91ED0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02D1-5DAD-49FB-AE0D-7F9FA701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E87E-D7F8-4C71-91F0-DA5A561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9768-3BD8-4740-B374-44AC6B6A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0C77-6AEA-4F40-A429-42A93FF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2C2E-D604-4655-AC3D-E1FC072D5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CBF1-4837-4B71-9262-4C453BC2CA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板橋区基本計画策定支援業務委託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E7C-E009-4C71-A38B-CC44475DAD58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阿瀬見 有貴</cp:lastModifiedBy>
  <cp:lastPrinted>2020-01-07T04:53:42Z</cp:lastPrinted>
  <dcterms:modified xsi:type="dcterms:W3CDTF">2023-05-09T12:49:19Z</dcterms:modified>
  <cp:revision>75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