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2522-C2D8-4DC3-BFFF-8F9AD1C9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F769-5CCA-43D6-B562-AF488AB5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94BC-FB63-4682-9F2F-CF59CD03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B160-1719-4CA3-B416-25B2BAF0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D960-8569-4897-B368-2794075C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7035-278B-45E4-9D82-DBE0C04B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8C7-6046-42B1-A255-0E5B7BEF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F1F4-B3DB-4286-A643-90A40512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821-E3BF-4684-AFE0-ADE1A32F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18FB-3515-4FAD-B7AE-2659B6CD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8C5-B4CB-438B-9194-427A67C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8FC1-4BE0-416E-9D82-79FA3A8A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85C9-15D2-4897-BB7F-AC74937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27A6-FB00-44E4-B553-F7395789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E14A-4D00-4EA3-B0FF-572798CF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B081-E2DA-4845-9F6D-84FF5462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DDD8-21C7-4CA0-827B-3168916E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387F-2AEB-4F34-AA67-5B75D3FF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6EDE-7B8A-4341-9D5E-1A756ED1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A333-68AF-4B2E-9021-105D558F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0DC1-B518-4515-B9F3-2E2A8819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BCB5-E8D8-41FE-9C83-28728CC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E1D7-A23A-4D95-B496-30F807F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1FF3-9CD9-459D-AA0B-55C448B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D3CD-8098-4A2C-9FB7-21F2CF71F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A486-BAC0-47A6-9C15-E19478463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令和７年度「絵本のまちひろば」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運営委託　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3AD3-74DB-478D-B072-256B6DA84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石原 梨菜</cp:lastModifiedBy>
  <cp:lastPrinted>2019-01-07T23:26:14Z</cp:lastPrinted>
  <dcterms:modified xsi:type="dcterms:W3CDTF">2024-12-10T08:44:04Z</dcterms:modified>
  <cp:revision>65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