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BD5EF-A41E-42B7-8275-16AAAA695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12221-47EE-49E8-B4EB-E3DC46697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206D9-EB60-4739-9C0E-26A846953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5FA26-CF1C-4072-B78E-1ADEAB9A2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B30ED-0973-4FD6-BD3A-F32451314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CCBEA-ED21-453B-B5B5-0B45D6690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C4FD5-1D8C-459F-A564-70F1F1F0A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34D83-6E97-4B70-B352-39A045F6B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C34A6-A7BD-47CB-9E41-19CF564B2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1F371-6745-4978-8575-BA8F4FB33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D9A42-4023-4CDF-B971-239B93D00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57DC0-4F5A-4231-916E-BC5070EB4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D8467-3C47-49BB-B5A3-33EA03340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A0F81-5A44-4FD7-9C5B-327A87122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950B3-1CE5-42C0-9A5C-3C13989DB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9E8C2-9C98-4FBE-993E-533C01FC2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031C0-BEBB-439E-89C6-DDEFBFE16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51C2F-E9F4-4AC5-A50A-BB8DEF24B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1345F-8069-402B-9C0D-A24D88B45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D0AE7-FA12-4DB1-85F2-5EA6D70EF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54E9A-F7E1-4776-9E2D-BBD7F43CC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666AB-51AF-43C0-9DC9-93A8D0D5B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4E68A-F9EC-42A2-9B97-F8340A8A9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7E08E-8EF1-4187-B77B-629DB1672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79CBE-8AA5-44CE-9FE4-2796D9392C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ED327-AC87-498D-BE6B-F537371F560B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68360" y="1833120"/>
            <a:ext cx="6723360" cy="20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ffff"/>
                </a:solidFill>
                <a:latin typeface="メイリオ"/>
                <a:ea typeface="メイリオ"/>
              </a:rPr>
              <a:t>いたばしグリーンプラン</a:t>
            </a:r>
            <a:r>
              <a:rPr b="1" lang="en-US" sz="2800" spc="-1" strike="noStrike">
                <a:solidFill>
                  <a:srgbClr val="ffffff"/>
                </a:solidFill>
                <a:latin typeface="メイリオ"/>
                <a:ea typeface="メイリオ"/>
              </a:rPr>
              <a:t>2035</a:t>
            </a:r>
            <a:br>
              <a:rPr sz="2800"/>
            </a:br>
            <a:r>
              <a:rPr b="1" lang="ja-JP" sz="2800" spc="-1" strike="noStrike">
                <a:solidFill>
                  <a:srgbClr val="ffffff"/>
                </a:solidFill>
                <a:latin typeface="メイリオ"/>
                <a:ea typeface="メイリオ"/>
              </a:rPr>
              <a:t>策定</a:t>
            </a:r>
            <a:r>
              <a:rPr b="1" lang="zh-TW" sz="2800" spc="-1" strike="noStrike">
                <a:solidFill>
                  <a:srgbClr val="ffffff"/>
                </a:solidFill>
                <a:latin typeface="メイリオ"/>
                <a:ea typeface="メイリオ"/>
              </a:rPr>
              <a:t>業務委託</a:t>
            </a:r>
            <a:r>
              <a:rPr b="1" lang="ja-JP" sz="2800" spc="-1" strike="noStrike">
                <a:solidFill>
                  <a:srgbClr val="ffffff"/>
                </a:solidFill>
                <a:latin typeface="メイリオ"/>
                <a:ea typeface="メイリオ"/>
              </a:rPr>
              <a:t>　企画提案書</a:t>
            </a:r>
            <a:br>
              <a:rPr sz="3000"/>
            </a:b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563640" y="3789000"/>
            <a:ext cx="5327640" cy="3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ffffff"/>
                </a:solidFill>
                <a:latin typeface="メイリオ"/>
                <a:ea typeface="メイリオ"/>
              </a:rPr>
              <a:t>令和　　　年　　月　　日</a:t>
            </a:r>
            <a:endParaRPr b="0" lang="en-US" sz="17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2556000" y="4292640"/>
            <a:ext cx="5761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メイリオ"/>
                <a:ea typeface="メイリオ"/>
              </a:rPr>
              <a:t>【</a:t>
            </a:r>
            <a:r>
              <a:rPr b="1" lang="ja-JP" sz="1200" spc="-1" strike="noStrike">
                <a:solidFill>
                  <a:srgbClr val="ff0000"/>
                </a:solidFill>
                <a:latin typeface="メイリオ"/>
                <a:ea typeface="メイリオ"/>
              </a:rPr>
              <a:t>留意事項</a:t>
            </a:r>
            <a:r>
              <a:rPr b="1" lang="en-US" sz="1200" spc="-1" strike="noStrike">
                <a:solidFill>
                  <a:srgbClr val="ff0000"/>
                </a:solidFill>
                <a:latin typeface="メイリオ"/>
                <a:ea typeface="メイリオ"/>
              </a:rPr>
              <a:t>】</a:t>
            </a:r>
            <a:endParaRPr b="1" lang="en-US" sz="12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メイリオ"/>
                <a:ea typeface="メイリオ"/>
              </a:rPr>
              <a:t>・提案書（副本）に社名・ロゴ等を記載しないこと。</a:t>
            </a:r>
            <a:endParaRPr b="1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9" name="Rectangle 13"/>
          <p:cNvSpPr/>
          <p:nvPr/>
        </p:nvSpPr>
        <p:spPr>
          <a:xfrm>
            <a:off x="7667640" y="620640"/>
            <a:ext cx="1295280" cy="914400"/>
          </a:xfrm>
          <a:prstGeom prst="rect">
            <a:avLst/>
          </a:pr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7885080" y="189000"/>
            <a:ext cx="93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3300"/>
                </a:solidFill>
                <a:latin typeface="メイリオ"/>
                <a:ea typeface="メイリオ"/>
              </a:rPr>
              <a:t>様式２</a:t>
            </a:r>
            <a:endParaRPr b="1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8523720" y="836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3300"/>
                </a:solidFill>
                <a:latin typeface="メイリオ"/>
                <a:ea typeface="メイリオ"/>
              </a:rPr>
              <a:t>者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スライド番号プレースホルダ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3789F-2F2F-42FC-8EA6-CBE7AD973FEB}" type="slidenum">
              <a:rPr b="0" lang="en-US" sz="1200" spc="-1" strike="noStrike">
                <a:solidFill>
                  <a:srgbClr val="003300"/>
                </a:solidFill>
                <a:latin typeface="メイリオ"/>
                <a:ea typeface="メイリオ"/>
              </a:rPr>
              <a:t>&lt;number&gt;</a:t>
            </a:fld>
            <a:endParaRPr b="1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3300"/>
                </a:solidFill>
                <a:latin typeface="メイリオ"/>
                <a:ea typeface="メイリオ"/>
              </a:rPr>
              <a:t>目次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14" name="Picture 4" descr="BD15034_"/>
          <p:cNvPicPr/>
          <p:nvPr/>
        </p:nvPicPr>
        <p:blipFill>
          <a:blip r:embed="rId1"/>
          <a:stretch/>
        </p:blipFill>
        <p:spPr>
          <a:xfrm>
            <a:off x="542880" y="768240"/>
            <a:ext cx="8204400" cy="1335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362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3300"/>
                </a:solidFill>
                <a:latin typeface="ＭＳ Ｐ明朝"/>
                <a:ea typeface="ＭＳ Ｐ明朝"/>
              </a:rPr>
              <a:t>　</a:t>
            </a:r>
            <a:r>
              <a:rPr b="0" lang="ja-JP" sz="1200" spc="-1" strike="noStrike">
                <a:solidFill>
                  <a:srgbClr val="003300"/>
                </a:solidFill>
                <a:latin typeface="メイリオ"/>
                <a:ea typeface="メイリオ"/>
              </a:rPr>
              <a:t>あいうえお・・・</a:t>
            </a:r>
            <a:r>
              <a:rPr b="0" lang="en-US" sz="1200" spc="-1" strike="noStrike">
                <a:solidFill>
                  <a:srgbClr val="003300"/>
                </a:solidFill>
                <a:latin typeface="メイリオ"/>
                <a:ea typeface="メイリオ"/>
              </a:rPr>
              <a:t>12</a:t>
            </a:r>
            <a:r>
              <a:rPr b="0" lang="ja-JP" sz="1200" spc="-1" strike="noStrike">
                <a:solidFill>
                  <a:srgbClr val="003300"/>
                </a:solidFill>
                <a:latin typeface="メイリオ"/>
                <a:ea typeface="メイリオ"/>
              </a:rPr>
              <a:t>ポイント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2:00:28Z</dcterms:created>
  <dc:creator>板橋区</dc:creator>
  <dc:description/>
  <dc:language>en-US</dc:language>
  <cp:lastModifiedBy>西村 直紘</cp:lastModifiedBy>
  <cp:lastPrinted>2020-01-07T04:53:42Z</cp:lastPrinted>
  <dcterms:modified xsi:type="dcterms:W3CDTF">2024-04-24T07:34:56Z</dcterms:modified>
  <cp:revision>78</cp:revision>
  <dc:subject/>
  <dc:title>板橋区気象観測システム 賃貸借事業提案書 ー 詳細版 ー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カテゴリ">
    <vt:lpwstr>全体</vt:lpwstr>
  </property>
  <property fmtid="{D5CDD505-2E9C-101B-9397-08002B2CF9AE}" pid="3" name="有効期限">
    <vt:lpwstr/>
  </property>
  <property fmtid="{D5CDD505-2E9C-101B-9397-08002B2CF9AE}" pid="4" name="重要度">
    <vt:lpwstr>中</vt:lpwstr>
  </property>
</Properties>
</file>