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4466-B205-40C5-8CBD-EBE6E8C5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FE14-7544-480A-A409-164C96C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5E2E-0633-4BC0-9E10-3DF00CEA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01AD-76B4-4CBE-836A-98797A1E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A1A4-1AC7-4912-B60D-A973AD7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0224-8142-487D-B4A5-3D09CBD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3C2B-0115-4D87-A6C7-214A999B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6CE4-0F39-4772-86D9-7FDAF1A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FF1-C0AA-4931-8365-49B9D0A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BE1F-5618-4557-8B59-28E55CA9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38A-C35B-46A7-A69C-AC522EE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EADE-1B80-4B15-A36B-436B5B06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D154-6635-4371-B31C-1EF3BDD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4B8-D48C-4216-A35F-210CC93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2A71-5709-4458-9E0A-17D8820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3DC4-4B17-4A4E-8B7D-C7E7A215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B5DE-C21B-4C56-9921-602ECE71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F381-318A-48DD-84E1-97833AB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8B5E-82B2-415F-B262-810AC9F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2E56-56E9-4C1F-9DB5-40E1A45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7EB4-0439-451A-B0B0-0208BB2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B254-A5FC-4575-B28D-1BB5BB5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4C50-1CEE-4F26-BA6B-78DCD42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A2C6-B62E-4D81-9F46-5914626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76A-2A18-435C-BA87-CBF8736A3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098-082F-49FF-A3CD-32AD1DDEE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板橋区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環境マネジメントシステム再構築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支援業務委託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6D44-1A9E-4F5E-A6B0-23DFBA5B1EC4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羽鳥 雄祐</cp:lastModifiedBy>
  <cp:lastPrinted>2020-01-07T04:53:42Z</cp:lastPrinted>
  <dcterms:modified xsi:type="dcterms:W3CDTF">2024-03-27T01:13:58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