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176C5-5DDC-4948-B3BA-95A87444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8E409-C718-4E66-8401-C308E35B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F90A-9A13-4162-AE42-963282A76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7473-0991-4E9E-8B81-57476A6B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DF11-D1F4-4ABA-8F30-DD347253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7822-0CD4-48E0-AAFC-FC3CC4A5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8A6A-7082-4AEE-9D8F-07E87213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29FA-D128-4670-B48F-C73F72B4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B59A-E6CC-4D29-BEE6-A4B64AEE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462A-6560-40E1-93A8-71BCFEB5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1054-EBAE-49D8-B06C-EFB8D19B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EED6A-91C3-449D-AF92-C7B18600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E32E-E771-4CC1-8E8F-CFF9ADA5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EA2A-39BB-4534-833D-24F416DC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A0D5-F82F-4734-9BF0-75715026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818D-5D16-4F25-B995-083AA3A9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37A5-7EDE-485A-BCEC-8E0CFC30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E5D34-D5A3-48DF-8EC4-11AF939B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1FDEC-A6C2-45A3-999D-568D69DF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A6E6B-1E30-4EAF-9AE7-A5E59F85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AF1F0-5FD0-467E-B797-8DD2E0B6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2B5C-EB57-4A73-9F02-82C99D8E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C91BF-1871-48FB-B7DF-134D833C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79F27-C328-4856-8C15-32CB78CD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B8B0-22AD-414B-8C6F-F453B30B14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5811-4B25-47FC-91C9-268C600B7A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68360" y="1833120"/>
            <a:ext cx="6723360" cy="20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板橋区ブランド戦略策定等支援委託　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Arial"/>
                <a:ea typeface="HG創英角ｺﾞｼｯｸUB"/>
              </a:rPr>
              <a:t>企画提案書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563640" y="3789000"/>
            <a:ext cx="532764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ffffff"/>
                </a:solidFill>
                <a:latin typeface="Arial"/>
              </a:rPr>
              <a:t>令和　　　年　　月　　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2556000" y="429264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留意事項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】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・副本には社名・ロゴ等を記載しないこと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667640" y="620640"/>
            <a:ext cx="1295280" cy="914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7885080" y="18900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様式３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852480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スライド番号プレースホルダ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18A4-41AB-4446-A018-F4D46289B0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684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ｺﾞｼｯｸE"/>
              </a:rPr>
              <a:t>目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BD15034_"/>
          <p:cNvPicPr/>
          <p:nvPr/>
        </p:nvPicPr>
        <p:blipFill>
          <a:blip r:embed="rId1"/>
          <a:stretch/>
        </p:blipFill>
        <p:spPr>
          <a:xfrm>
            <a:off x="539640" y="765000"/>
            <a:ext cx="8209080" cy="136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あいうえお・・・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ポイ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2:00:28Z</dcterms:created>
  <dc:creator>板橋区</dc:creator>
  <dc:description/>
  <dc:language>en-US</dc:language>
  <cp:lastModifiedBy>安川 史章</cp:lastModifiedBy>
  <cp:lastPrinted>2019-01-07T23:26:14Z</cp:lastPrinted>
  <dcterms:modified xsi:type="dcterms:W3CDTF">2025-01-07T04:10:29Z</dcterms:modified>
  <cp:revision>67</cp:revision>
  <dc:subject/>
  <dc:title>板橋区気象観測システム 賃貸借事業提案書 ー 詳細版 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カテゴリ">
    <vt:lpwstr>全体</vt:lpwstr>
  </property>
  <property fmtid="{D5CDD505-2E9C-101B-9397-08002B2CF9AE}" pid="3" name="有効期限">
    <vt:lpwstr/>
  </property>
  <property fmtid="{D5CDD505-2E9C-101B-9397-08002B2CF9AE}" pid="4" name="重要度">
    <vt:lpwstr>中</vt:lpwstr>
  </property>
</Properties>
</file>