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AutoShape 1"/>
          <p:cNvSpPr/>
          <p:nvPr/>
        </p:nvSpPr>
        <p:spPr>
          <a:xfrm>
            <a:off x="0" y="0"/>
            <a:ext cx="6735600" cy="98712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655">
                <a:moveTo>
                  <a:pt x="5" y="0"/>
                </a:moveTo>
                <a:arcTo wR="5" hR="5" stAng="16200000" swAng="-5400000"/>
                <a:lnTo>
                  <a:pt x="0" y="31650"/>
                </a:lnTo>
                <a:arcTo wR="5" hR="5" stAng="10800000" swAng="-5400000"/>
                <a:lnTo>
                  <a:pt x="21595" y="316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816360" y="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77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4"/>
          </p:nvPr>
        </p:nvSpPr>
        <p:spPr>
          <a:xfrm>
            <a:off x="381600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02698-D840-4B07-A663-23B8342DC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16360" y="93740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1A2E2-E974-4446-8D94-6E9895A38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游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16360" y="93740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34F6A-F6BD-46D8-8C14-18E219D21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游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FCB-0504-42FF-B878-C9B0AFEC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941-E498-4AB3-976C-620A1D9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B31-5A46-4E8E-8019-97D1F6BC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69F-790F-4613-9BD6-EACA194F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E37C-C86D-4D56-A9B2-46ABCD23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8901-2797-4BE3-AEC2-E306299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B5C-60D8-4BA8-A36B-06424087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AE9B-E9E3-4E52-B4DB-0511AFF9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1BD4-EBF2-4BAE-B16A-7BB881FE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4221-97F2-46C9-8E60-9A05F163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18B5-AF57-4B14-A9C8-D2758B2D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497-32AD-48B5-B110-BC2053C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6EB9-C8CA-44F0-9A1C-BE6C8AA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75C4-0B01-4FB7-AEDD-2F4F0E7C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9074-F685-4F35-8060-FFF16F71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EAF-3030-4ADC-AF01-E5B3029A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3DAB-7365-418E-A258-B31BB214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753F-85C0-4F90-9788-2994BF05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CA63-0DB8-45F7-B9FB-3CF2E1DE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AF88-3AAD-4F1A-8AAB-7FEC72D2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2A46-D1C5-4E9D-9202-AA8D85BF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F832-023C-4564-842F-B5177B28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5C6-F4A7-4446-BE39-7903ECC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7527-6162-4CD6-9141-2359CCC5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4B98-8108-414C-B283-E6FD15B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1470-E0A5-4614-AE0D-898A209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CC71-6962-4754-B817-C0AD26A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4F18-A603-4511-845C-84A1F90E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083F-EC9D-48BE-8E46-366F801A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F73B-4EB3-4328-82E5-11D78519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3F53-C005-40A4-94C3-ABA352EC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DDAD-8C65-4080-A8FB-01E03E8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9BFD-BFCA-4E2C-960F-D4CC7B2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DF9-EDF0-4A61-A315-E44E72DC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8B72-DE43-4BA8-B212-9EAF45B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F589-6109-43DE-BE7B-DE3F94E0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B4CE-311C-45D7-8DE7-F9C4F4B8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614B-1B55-4BFF-9120-99E47B6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74EF-CE97-4F3A-B477-941E7066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AFA4-172F-4507-A032-502F16C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AC74-2B38-45B3-9E92-29182F4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A3DF-DB37-4EFB-88BE-69BAE007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8995-1025-4B2A-A823-25FF4883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3F354-F552-4E61-9D55-09C8E5432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884-75FA-4147-966C-BD39FCF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442FE-EF2E-44D7-A78D-599E407C78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BA6CA-EE96-484E-A012-991D30C27E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0986F-3961-42EB-A0A9-F003BB38010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15CC0-EF41-43FC-99F9-3399B9EC47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F8FB6-8ACF-4DAF-A549-962E42E3BE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6D3E6-1C1A-451C-97A4-1CBA721D35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C1ECF-057F-4BB0-A4B2-8673BC0A30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D7817B-0EF3-4AB2-BF4A-850F30DBCB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73FF3-435B-4AE3-A886-9A32EFB3C7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3DF41-6DBA-4114-9BBF-6BE607B96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304-4538-4DE7-9926-04FF31BD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C9B3C-2F7F-4F0A-939D-FC7180FCA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D9F-1DBB-4095-A48F-A80C0EF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607-01FA-45EB-B913-84D21A1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663-92C1-42E5-83FC-AE78469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8DC3E-5598-4FB5-B245-04727BAAF457}" type="slidenum">
              <a: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F30DE-5014-4474-A225-1E4FC74BC741}" type="slidenum">
              <a: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AC2E7-5780-4DFF-9B7D-2EA4FE2CC88E}" type="slidenum">
              <a: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2946C-0B78-4A82-8F7F-9C67E82539E1}" type="slidenum">
              <a: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235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37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238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40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241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43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244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46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247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49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58041-B4F2-4867-8B31-CD6CF25E49C2}" type="slidenum">
              <a:rPr b="0" lang="en-US" sz="28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36800" y="1954080"/>
            <a:ext cx="809136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メイリオ"/>
                <a:ea typeface="メイリオ"/>
              </a:rPr>
              <a:t>（仮称）産業ミュージアム基本構想・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メイリオ"/>
                <a:ea typeface="メイリオ"/>
              </a:rPr>
              <a:t>　基本計画策定支援業務　企画提案書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688000" y="3349440"/>
            <a:ext cx="284328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７年　　月　　日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755640" y="385920"/>
            <a:ext cx="1295280" cy="9144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6588000" y="2984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様式２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624680" y="647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457200" y="187200"/>
            <a:ext cx="8229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88880" y="981000"/>
            <a:ext cx="8363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cp:keywords/>
  <dc:language>en-US</dc:language>
  <cp:lastModifiedBy>岩崎 真也</cp:lastModifiedBy>
  <cp:lastPrinted>2020-01-07T04:53:42Z</cp:lastPrinted>
  <dcterms:modified xsi:type="dcterms:W3CDTF">2024-12-13T05:30:28Z</dcterms:modified>
  <cp:revision>82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