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B12-8DB3-4221-B0DD-D8AE22DB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DA8-7F0A-4137-ABF9-39225F4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FA4-ED17-4BD6-891A-64098AA7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7C0-88F9-4E74-9328-8A2DDF29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5CD0-BDDA-4CC2-AC57-94E11733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ED6-89E5-426C-8681-F37A964F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169-9E18-4E00-93D2-173E1EB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E1CB-24E8-4071-95FB-7F5EBC28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57B-D2E3-4954-B9A4-BDD5062F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BEB7-DFA0-463D-9A9D-3DAF3488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B349-7140-47C4-9E80-2A06216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1B6-00C1-4EE1-93B8-558232F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D240-68CA-4402-9E96-454B522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466E-EA93-449F-8E65-07C16A28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0518-B6A1-43E9-893A-A0D1FD8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2BFC-BAB4-4FF0-B724-5BD1BF8A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27A-2618-42FF-9588-830E3BEE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E4AB-3717-430A-9F7D-0535A09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619A-7BB9-48EA-A154-BAA49D20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B3FF-BC86-4FFD-B284-DDC8746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3046D-CE75-4E7C-B544-AF973FD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BCA0-0AD0-4CA5-B72C-07FBB2F8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B5D-85B2-4F7B-8ABE-EC65E93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CC16-DD1B-4F8E-BBCF-9BC8619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DAEE-E1E1-417F-BF7E-DC5CEB2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ABC1-9AFF-4EEB-91E0-A1D80B45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4A78-076E-459F-8267-2E0DCCA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604F-9051-44D6-A575-550AE1A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A2EB-C4CD-495D-A370-C3B9AEC4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7C7E-7377-453D-9FD9-CC20338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D16C-AFB9-4ED5-8502-13F02E62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CD35-5A43-4565-BCB0-CEB32BFE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A57D-9F07-44A1-97C2-3DD15462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948-4F35-4FE3-A62D-C44F38A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7BA6-6570-493E-9966-FD1FC5B4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B036-6AF8-4C08-9AA1-EA3E820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B9C5E-F220-4005-B53F-FE4D5CA7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0836-E59A-41C0-B866-04E5000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4A3E-6C4B-4F65-B96F-A9665389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AE9B-50BD-4137-A610-A539AC5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E9FF-D61A-4EC0-BB5A-9F17EBA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96540-9B51-4F4B-A989-DAFC449C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14222-79E3-47F0-B603-56341B1C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A44-B4C5-4274-8B5C-10FD8FF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8BA-5C4B-4E69-B889-FEB4FD5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287-8D7A-4712-A114-39D981E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AD1-E504-4DD0-B074-68E3492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43B-953D-48D0-AA74-B6F76F5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B9C08-D93F-4EAC-BD23-89E3B087EE80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3B254-C726-4911-9957-C68FB2CE8BBC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1D047-22DA-494A-AD92-8229A5EAA3FD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  <a:ea typeface="ＭＳ Ｐゴシック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B138C-0887-4BD4-8698-0F0EA9C39BA7}" type="slidenum">
              <a:rPr b="0" lang="en-US" sz="900" spc="-1" strike="noStrike">
                <a:solidFill>
                  <a:srgbClr val="90c226"/>
                </a:solidFill>
                <a:latin typeface="Times New Roman"/>
                <a:ea typeface="メイリオ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761840"/>
            <a:ext cx="7056720" cy="20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板橋グリーンカレッジ専用ポータルサイト</a:t>
            </a:r>
            <a:br>
              <a:rPr sz="2400"/>
            </a:br>
            <a:r>
              <a:rPr b="1" lang="ja-JP" sz="2400" spc="-1" strike="noStrike">
                <a:solidFill>
                  <a:srgbClr val="90c226"/>
                </a:solidFill>
                <a:latin typeface="HGSｺﾞｼｯｸE"/>
                <a:ea typeface="HGSｺﾞｼｯｸE"/>
              </a:rPr>
              <a:t>システム構築及び運用・保守業務委託企画提案書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39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700" spc="-1" strike="noStrike">
                <a:solidFill>
                  <a:srgbClr val="90c226"/>
                </a:solidFill>
                <a:latin typeface="Trebuchet MS"/>
                <a:ea typeface="メイリオ"/>
              </a:rPr>
              <a:t>令和　　　年　　月　　日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【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留意事項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・提案書（副本）に社名・ロゴ等を記載しないこと。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様式４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90c226"/>
                </a:solidFill>
                <a:latin typeface="Trebuchet MS"/>
                <a:ea typeface="HGPｺﾞｼｯｸE"/>
              </a:rPr>
              <a:t>目次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40404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221" name="スライド番号プレースホルダ 6"/>
          <p:cNvSpPr/>
          <p:nvPr/>
        </p:nvSpPr>
        <p:spPr>
          <a:xfrm>
            <a:off x="8245440" y="6021360"/>
            <a:ext cx="51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40E84-8B61-452D-890B-8D24C8C792E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長澤 一葉</cp:lastModifiedBy>
  <cp:lastPrinted>2019-01-07T23:26:14Z</cp:lastPrinted>
  <dcterms:modified xsi:type="dcterms:W3CDTF">2024-11-29T00:43:09Z</dcterms:modified>
  <cp:revision>69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