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57760" y="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2006280" y="744120"/>
            <a:ext cx="279540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79356E-504D-4792-816D-A7AF0C056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006640" y="744480"/>
            <a:ext cx="2795400" cy="3729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ー 3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A3C958-5C1D-46F8-A0BA-081A6D929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F374-86D3-4480-B3D8-EEC43AE1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E2FB-13D3-4030-82E3-DBE52F68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CBCA-133D-4EEB-B22E-698B6912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0DDF0-38EA-47AE-91F3-F705B07B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7B6D-BA26-4D6A-9648-924A4A6D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626E-5C5A-4DF6-A0E7-3B0C2D52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B205-E7FD-479B-8D84-AC1F7FCA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4106-5364-4344-8A3A-EF0D820E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436C-C24B-4B3C-AB58-78054CB5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6E06-BEE7-4C92-A10E-DCB05E4F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26F5-4F78-43D1-B398-86BEB9A7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09F95-2DE9-4D7A-A5E8-6C46E541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6FEF-6AE7-4DB1-B8DD-222986E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9DDC-3BBF-4171-B6A7-4BA75D1C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3A6C-A00A-491C-9263-35FF2B49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0949-0E7C-4629-8C17-02D98E97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8C2D-0633-4FCE-8103-A777126D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5AE8-6D51-42F3-AAD7-FCB42106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7B72-058B-4DA5-A695-77416B17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7BA4-A832-41F5-ADD7-19C66E4F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58DC-EFB8-40F6-ACB1-9BA8BAC5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94A2-32BF-453D-B29D-20A15C3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CCBC-6016-4970-AC24-968ECA65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8A96-FF76-4C7D-9257-0439A95B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D2AF-7CFC-4681-9D78-F3C57C175481}" type="slidenum">
              <a:rPr b="0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6857640" cy="728280"/>
            <a:chOff x="0" y="0"/>
            <a:chExt cx="6857640" cy="72828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14200" cy="7113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9600" y="180000"/>
              <a:ext cx="6548040" cy="36612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08160" y="180000"/>
              <a:ext cx="103680" cy="18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10400" y="0"/>
              <a:ext cx="10476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10400" y="180000"/>
              <a:ext cx="104760" cy="18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05920" y="366120"/>
              <a:ext cx="10116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8640" y="181800"/>
              <a:ext cx="105840" cy="1843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8160" y="361800"/>
              <a:ext cx="103680" cy="1843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05920" y="546480"/>
              <a:ext cx="101160" cy="181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2628720" cy="914364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287000" y="2253960"/>
              <a:ext cx="5570640" cy="3377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422000"/>
              <a:ext cx="2149920" cy="4209480"/>
              <a:chOff x="0" y="1422000"/>
              <a:chExt cx="2149920" cy="420948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429840" y="4776840"/>
                <a:ext cx="432000" cy="8546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287000" y="2253600"/>
                <a:ext cx="432000" cy="8571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0720" y="1422000"/>
                <a:ext cx="439200" cy="846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856080" y="4776840"/>
                <a:ext cx="439200" cy="8546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710720" y="2253600"/>
                <a:ext cx="439200" cy="857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856080" y="3098160"/>
                <a:ext cx="439200" cy="8442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3098160"/>
                <a:ext cx="436680" cy="8442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287000" y="3098160"/>
                <a:ext cx="432000" cy="8442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429840" y="3930120"/>
                <a:ext cx="432000" cy="858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856080" y="3930120"/>
                <a:ext cx="439200" cy="858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2322-FDF1-4631-9730-E1C0AAE3C781}" type="slidenum">
              <a:rPr b="0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01720" y="3374640"/>
            <a:ext cx="504216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板橋区文書管理システム再構築及び</a:t>
            </a: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運用保守業務委託　</a:t>
            </a: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企画提案書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673000" y="4842000"/>
            <a:ext cx="399564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928880" y="5002200"/>
            <a:ext cx="43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9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5614920" y="965160"/>
            <a:ext cx="9716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886360" y="324000"/>
            <a:ext cx="7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様式４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6219720" y="1157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スライド番号プレースホルダ 6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4B44-58FE-4DFA-8B3B-0655EE5E8CAE}" type="slidenum">
              <a:rPr b="0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6640" y="539640"/>
            <a:ext cx="61722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D15034_"/>
          <p:cNvPicPr/>
          <p:nvPr/>
        </p:nvPicPr>
        <p:blipFill>
          <a:blip r:embed="rId1"/>
          <a:stretch/>
        </p:blipFill>
        <p:spPr>
          <a:xfrm>
            <a:off x="353880" y="971640"/>
            <a:ext cx="6156360" cy="1029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7000" y="1115640"/>
            <a:ext cx="627192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BIZ UDPゴシック"/>
                <a:ea typeface="BIZ UDPゴシック"/>
              </a:rPr>
              <a:t>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BIZ UDPゴシック"/>
                <a:ea typeface="BIZ UDPゴシック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BIZ UDPゴシック"/>
                <a:ea typeface="BIZ UDPゴシック"/>
              </a:rPr>
              <a:t>ポイント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金子 清美</cp:lastModifiedBy>
  <cp:lastPrinted>2019-01-07T23:26:14Z</cp:lastPrinted>
  <dcterms:modified xsi:type="dcterms:W3CDTF">2025-06-02T03:18:54Z</dcterms:modified>
  <cp:revision>71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