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1020-C8F0-432B-9419-23A9D8F0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F2B3-CADC-44FA-8C37-0CCDE090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F3E6-A6F5-4A2C-A748-F7A13874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1C0A-954B-4285-B55E-176FAFF5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641E-B83D-4F8B-91B5-90552FCF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61E2-A63F-4933-9AB1-162E39B9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FF12-F0A6-4E2E-909F-C46C25CF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0EFA-4E02-4ADF-9ECD-281E6AAE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BF72-1C40-4A16-B92C-BC526E04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4DF1-575C-44DA-BE86-3D4EFF1B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C7DC-7EE2-4546-AF50-B4761DA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ED7C-B553-412F-B36E-12A1B131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43CF-1CF7-4AD2-BC94-6A7E3C7A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A78A-C051-432F-B957-CD305F15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0F50-CA1B-4F97-A36E-2FA27B8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44F9-2639-4996-9E9D-AFB6EA86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7179-2C7D-4C67-A683-CCEE0FF3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FD1D-E48D-421F-AF0F-25457177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CAB3-6041-46D8-86A0-EB766D6D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CBFD-BE1C-43B9-8C68-719B0BAB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7A9D-10C2-4152-931B-F37521C3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09FD-066C-47A4-AAE5-0874AA4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EB7B-285B-41FD-97B4-8859378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8E7B-C7CF-4C4D-94E7-06FABF1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E59B-8D47-4EB7-A18E-57CF322E1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917D-AB61-4709-BC38-9039D55585F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41240" y="1740960"/>
            <a:ext cx="6723000" cy="19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高島平緑地（高島平九丁目地区）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再整備基本計画策定支援業務委託　</a:t>
            </a:r>
            <a:br>
              <a:rPr sz="3000"/>
            </a:b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・副本には社名・ロゴ等を記載しないこと。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UDゴシック"/>
              </a:rPr>
              <a:t>様式２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95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33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41600" y="2625840"/>
            <a:ext cx="672300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ー企画提案書ー</a:t>
            </a:r>
            <a:br>
              <a:rPr sz="3000"/>
            </a:br>
            <a:endParaRPr b="1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あいうえお・・・</a:t>
            </a:r>
            <a:r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以下の順番で提案書を作成してください。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１）　業務実施体制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２）　工程計画等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３）　技術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ア）「地元ヒアリング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イ）「社会実験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ウ）「トライアルサウンディング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エ）「社会実験及びトライアルサウンディング実施のための基盤整備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オ）「適正な植栽監理のあり方」に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カ）「公民連携事業のための民間事業者への市場調査」及び「公民連携事業導入範囲及びスキームの検討」に　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　　　　　　関する提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（４）　見積書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吉井 香南</cp:lastModifiedBy>
  <cp:lastPrinted>2019-01-07T23:26:14Z</cp:lastPrinted>
  <dcterms:modified xsi:type="dcterms:W3CDTF">2025-07-31T02:40:38Z</dcterms:modified>
  <cp:revision>78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