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EE312-4996-4547-9757-A920E51E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7510-9723-4FB4-B879-FD6FA79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D9CD-9DFD-46D8-927C-E8A430DA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CC6E1-16A9-483F-894C-4F63EB90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6F58-FD0C-4911-80A4-A1DB6F93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D171-8BF3-4331-BAA2-30B03AB7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4E4B-26F6-4329-A0AA-7C407FCB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E19D-4448-41BB-A9DE-CE699F56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DA5B-C27E-4294-BD85-511E6CF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02F9-B3E3-4D36-9668-7F155B4F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4547-68FD-4190-BE66-C6487857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643C-A33F-47BD-9192-B9A8EBE5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486A-976D-46B2-9CAA-2EB6C09F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30C5-3D51-42DE-A625-1003B5D2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15AD-2916-4634-9322-5991F39E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2D69-1D15-496B-942D-18D3B0F4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173E-380D-43D9-B6A4-310A136C0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EF7F4-9851-418A-BCB7-1D1EE17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6F81D-49A6-4B9B-B1B4-A85BF68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92A8D-EC08-4494-AD6F-8805CC8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5F0F-C662-4787-A081-F55F3DB3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FACC-69C6-4CD2-A983-822572F7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5CE9-B455-4FCC-8F75-96B0CEC2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EECF-2E22-4F68-925E-42B792AC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613B-6FE0-465E-AD6D-F65D30E36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A33-16D2-47E4-A6A9-89F06746D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プロモーションスペース等運営委託　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A416-18C7-4F84-A1D4-076FA82A8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/>
  <dc:description/>
  <dc:language>en-US</dc:language>
  <cp:lastModifiedBy/>
  <cp:lastPrinted>2019-01-07T23:26:14Z</cp:lastPrinted>
  <dcterms:modified xsi:type="dcterms:W3CDTF">2022-12-22T01:24:27Z</dcterms:modified>
  <cp:revision>6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