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FC63-2D30-46B2-AB79-EEF38596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8B0D-785E-4CA8-B639-35EBB055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87C9-F075-4C19-BB07-E74FFF4A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B063-E6C3-4F1C-8EBC-7CA7AEFF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098F-E336-4AAB-B14D-19C10F19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435-209F-438B-905D-6B0BCDA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6723-E505-4819-8F27-2268CD25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EB0-A4EC-4DF8-95EE-2756F6E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C6F5-E57B-456C-8B78-ABD2EB2E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3C74-1D2E-4198-A460-FFD466B2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EAB-4CC1-4FD4-89B2-6357473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F57A-F46A-40DB-9455-98B26B98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A271-1428-45F6-935B-12C8699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67F0-6D62-432C-A8CC-684F6D7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2B5-1DCD-476F-B7C0-373679A4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F45F-4491-42EB-A176-7ADD1EED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037-83A5-40FC-A00F-E61AE1C5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D02E-207A-499D-AA5A-4FA467E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B58D-BAF9-4549-81CA-B54E1692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15FA-C651-4518-9B77-4103C002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4BAA-7973-41ED-AF15-A9A4F46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89D2-4417-4E83-8297-6FEA1E3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397B-2F0C-40B5-A4D2-4E2BC2A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A334-C614-425F-A27F-7B45CBF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76C-85C9-4893-AE01-E4B2E6837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f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f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f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f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01A-F09B-421F-BD01-42BF9C5978C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240" y="1701720"/>
            <a:ext cx="67230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BIZ UDゴシック"/>
              </a:rPr>
              <a:t>板橋区みどりの協働体制構築業務委託</a:t>
            </a:r>
            <a:br>
              <a:rPr sz="30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・副本には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Arial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95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41600" y="2625840"/>
            <a:ext cx="67230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ー企画提案書ー</a:t>
            </a:r>
            <a:br>
              <a:rPr sz="3000"/>
            </a:br>
            <a:endParaRPr b="1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以下の</a:t>
            </a:r>
            <a:r>
              <a:rPr b="0" lang="en-US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6</a:t>
            </a: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項目で作成してください。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ア 「みどりの協働の現状調査」に関する提案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イ 「ワークショップ」に関する提案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ウ 「イベントや講座開催」に関する提案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エ 「みどりの協働体制の構築」に関する提案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オ 業務の実施体制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BIZ UDPゴシック"/>
                <a:ea typeface="BIZ UDPゴシック"/>
              </a:rPr>
              <a:t>カ 工程計画等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6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B8FB-4B52-4D2D-917B-9F55D0ED1ED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吉田 浩子</cp:lastModifiedBy>
  <cp:lastPrinted>2019-01-07T23:26:14Z</cp:lastPrinted>
  <dcterms:modified xsi:type="dcterms:W3CDTF">2025-12-25T01:37:47Z</dcterms:modified>
  <cp:revision>90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