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9EB97-AB0A-4BDB-A941-4EF8ADD3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87A92-BC9A-464A-A421-192A60DC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335A3-46FA-43AD-8997-1B411A2F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F955D-DDF6-49D4-90C7-2A5D0CA9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110E-4397-48AB-89F3-BAB2D5555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0058-BC5C-4C4F-8C63-ED307462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8D4D-D03B-4658-BC38-A20FFB6B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F48C-8DCA-45C6-8753-8EE995C3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6DBA-A1B6-4636-BBA9-14CF3F39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D919-BCCC-49C8-9808-527A423E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7DD5-0BE2-4BAE-BAC2-DB5EB3FC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1ECBB-EF36-4065-AFCD-6C318BFE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7601-617C-418C-AE1D-E4CAB872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69A8-8DBD-4055-A2BE-E36942DA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8BC0-429D-4EB9-92C4-FD7D5F4D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7E47-072B-4CE2-A742-137CC7DE2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D3B8-1404-4196-9055-D54E1BDE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F0C88-6456-48F4-88D2-0237CDDA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460BD-5985-45D2-8643-92BA976A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BC63C-1D33-4086-A12F-0399CA38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F6B81-A92E-4CD4-A906-0A89FBBA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26581-EE13-4BFF-8648-00E4F35E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D9DB7-A569-4DB7-9047-CC120A23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9AE89-C7A6-4756-93B8-DE5F7D04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9824-EF44-4C61-A52D-488FDED2F0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84CC-0D59-4721-81C0-190FD98283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060280"/>
            <a:ext cx="712800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板橋区個人番号カード交付関連業務委託</a:t>
            </a:r>
            <a:br>
              <a:rPr sz="3000"/>
            </a:br>
            <a:r>
              <a:rPr b="0" lang="ja-JP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　　　　　　提案書</a:t>
            </a:r>
            <a:br>
              <a:rPr sz="3000"/>
            </a:br>
            <a:r>
              <a:rPr b="0" lang="ja-JP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　　　　様式８－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(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２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)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～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(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７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5940360" y="5373720"/>
            <a:ext cx="2703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ff0000"/>
                </a:solidFill>
                <a:uFillTx/>
                <a:latin typeface="Arial"/>
              </a:rPr>
              <a:t>　　　　　　　　　　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708280" y="4444920"/>
            <a:ext cx="576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留意事項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・副本には社名・ロゴ等事業者が特定・類推される記載をしないこと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・フォントは１２ポイントとする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・様式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8-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）～（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）を２５ページ以内（表紙を除く）にまとめること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正方形/長方形 1"/>
          <p:cNvSpPr/>
          <p:nvPr/>
        </p:nvSpPr>
        <p:spPr>
          <a:xfrm>
            <a:off x="7385040" y="620640"/>
            <a:ext cx="12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表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ｺﾞｼｯｸE"/>
              </a:rPr>
              <a:t>　　　　　　　　　　　　　　　　　　基本的な体制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ｺﾞｼｯｸE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ｺﾞｼｯｸE"/>
              </a:rPr>
              <a:t>業務の基本方針・運営体制・個人情報の管理・クレーム対応・効果的な人員配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ｺﾞｼｯｸE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BD15034_"/>
          <p:cNvPicPr/>
          <p:nvPr/>
        </p:nvPicPr>
        <p:blipFill>
          <a:blip r:embed="rId1"/>
          <a:stretch/>
        </p:blipFill>
        <p:spPr>
          <a:xfrm>
            <a:off x="549360" y="1069920"/>
            <a:ext cx="8208720" cy="1364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7819920" y="317520"/>
            <a:ext cx="1297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ｺﾞｼｯｸE"/>
              </a:rPr>
              <a:t>様式８－（２）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ｺﾞｼｯｸE"/>
              </a:rPr>
              <a:t>　　　　　　　　　　　　　　　　　　　　窓口業務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ｺﾞｼｯｸE"/>
              </a:rPr>
              <a:t>　　　　　　　　　　　　　　　　　　（窓口受付体制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BD15034_"/>
          <p:cNvPicPr/>
          <p:nvPr/>
        </p:nvPicPr>
        <p:blipFill>
          <a:blip r:embed="rId1"/>
          <a:stretch/>
        </p:blipFill>
        <p:spPr>
          <a:xfrm>
            <a:off x="549360" y="1069920"/>
            <a:ext cx="8208720" cy="1364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7819920" y="317520"/>
            <a:ext cx="1297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ｺﾞｼｯｸE"/>
              </a:rPr>
              <a:t>様式８－（３）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ｺﾞｼｯｸE"/>
              </a:rPr>
              <a:t>　　　　　　　　　　　　　　　　コールセンター関連業務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ｺﾞｼｯｸE"/>
              </a:rPr>
              <a:t>　　　　　　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ｺﾞｼｯｸE"/>
              </a:rPr>
              <a:t>（コールセンター及びインターネットを用いた予約受取の方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BD15034_"/>
          <p:cNvPicPr/>
          <p:nvPr/>
        </p:nvPicPr>
        <p:blipFill>
          <a:blip r:embed="rId1"/>
          <a:stretch/>
        </p:blipFill>
        <p:spPr>
          <a:xfrm>
            <a:off x="549360" y="1069920"/>
            <a:ext cx="8208720" cy="1364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7819920" y="317520"/>
            <a:ext cx="1297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ｺﾞｼｯｸE"/>
              </a:rPr>
              <a:t>様式８－（４）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ｺﾞｼｯｸE"/>
              </a:rPr>
              <a:t>　　　　　　　　　　　　　　　個人番号カード管理業務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ｺﾞｼｯｸE"/>
              </a:rPr>
              <a:t>　　　　　　　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ｺﾞｼｯｸE"/>
              </a:rPr>
              <a:t>　　（個人番号カード管理、交付通知書発送体制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BD15034_"/>
          <p:cNvPicPr/>
          <p:nvPr/>
        </p:nvPicPr>
        <p:blipFill>
          <a:blip r:embed="rId1"/>
          <a:stretch/>
        </p:blipFill>
        <p:spPr>
          <a:xfrm>
            <a:off x="549360" y="1069920"/>
            <a:ext cx="8208720" cy="1364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7819920" y="317520"/>
            <a:ext cx="1297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ｺﾞｼｯｸE"/>
              </a:rPr>
              <a:t>様式８－（５）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ｺﾞｼｯｸE"/>
              </a:rPr>
              <a:t>　　　　　　　　　健康保険証連携・公金受取口座登録等業務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ｺﾞｼｯｸE"/>
              </a:rPr>
              <a:t>　　　　　　　　　　　　　　　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ｺﾞｼｯｸE"/>
              </a:rPr>
              <a:t>（連携、紐づけ支援体制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BD15034_"/>
          <p:cNvPicPr/>
          <p:nvPr/>
        </p:nvPicPr>
        <p:blipFill>
          <a:blip r:embed="rId1"/>
          <a:stretch/>
        </p:blipFill>
        <p:spPr>
          <a:xfrm>
            <a:off x="549360" y="1069920"/>
            <a:ext cx="8208720" cy="1364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7819920" y="317520"/>
            <a:ext cx="1297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ｺﾞｼｯｸE"/>
              </a:rPr>
              <a:t>様式８－（６）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ｺﾞｼｯｸE"/>
              </a:rPr>
              <a:t>独自提案</a:t>
            </a:r>
            <a:br>
              <a:rPr sz="20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ｺﾞｼｯｸE"/>
              </a:rPr>
              <a:t>（個人番号カード業務に関する独自の取り組みに関する提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BD15034_"/>
          <p:cNvPicPr/>
          <p:nvPr/>
        </p:nvPicPr>
        <p:blipFill>
          <a:blip r:embed="rId1"/>
          <a:stretch/>
        </p:blipFill>
        <p:spPr>
          <a:xfrm>
            <a:off x="549360" y="1069920"/>
            <a:ext cx="8208720" cy="1364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7819920" y="317520"/>
            <a:ext cx="1297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ｺﾞｼｯｸE"/>
              </a:rPr>
              <a:t>様式８－（７）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2:00:28Z</dcterms:created>
  <dc:creator/>
  <dc:description/>
  <dc:language>en-US</dc:language>
  <cp:lastModifiedBy>德留 龍矢</cp:lastModifiedBy>
  <cp:lastPrinted>2023-01-27T04:05:42Z</cp:lastPrinted>
  <dcterms:modified xsi:type="dcterms:W3CDTF">2026-01-08T07:32:54Z</dcterms:modified>
  <cp:revision>71</cp:revision>
  <dc:subject/>
  <dc:title>個人番号カード交付関連業務委託 　　　　　　提案書 　　　　様式８－(２)～(７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カテゴリ">
    <vt:lpwstr>全体</vt:lpwstr>
  </property>
  <property fmtid="{D5CDD505-2E9C-101B-9397-08002B2CF9AE}" pid="3" name="有効期限">
    <vt:lpwstr/>
  </property>
  <property fmtid="{D5CDD505-2E9C-101B-9397-08002B2CF9AE}" pid="4" name="重要度">
    <vt:lpwstr>中</vt:lpwstr>
  </property>
</Properties>
</file>